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D5EF-DF6C-4F05-990A-6A948390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C0DC-DD86-4916-BFAD-3551F42F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FF91-B01D-43A3-BB8C-FA59137D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2100-DE0F-4EDF-A652-780B113C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24B4-2456-4286-90CD-AA21B965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AF8F-F20C-4F59-9DB5-DAB88B7A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5114-9D05-445C-8F87-6BFBA543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1AE4-BEF7-4C5C-A2B2-E0106A6B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2249-96B3-4234-B3E2-575D7D33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3025-A5A9-419B-B6E6-ADDA0F66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225C-628B-4974-8DA2-13C37FF4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C213-F351-40CA-B4D8-4FC1CF20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E043-27D6-4454-BE8F-6BF5A577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EF7C-5B75-4B8D-A662-487F0922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2638-A6C1-4AFF-AE65-745CCAD9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B197-12D9-4F56-9DDC-26BD8ED1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3C6B-FE9D-4C77-9FF5-E00FE72E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35E1-3EC2-4706-96FC-DBE91717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E37-8127-49A5-8E15-5B51E5CB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938E-C824-4B4E-B68F-1691B52C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C02B-9342-4BB6-8D10-9EE147FA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9F8-CEC4-4E61-903E-976750A8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FBD5-E5F9-4FCC-910D-160D49DA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41E1-8EBE-4265-9461-B9920823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8E3E-4C50-4F49-A172-CE2E7625B5A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83B9-910F-49FC-999E-66889FE71BE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Правописание частицы не с глаголами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то такое не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 какой части речи относится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ак пишется не с глаголами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Творческая работа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евочек  __  дёргать за косичк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__   драться     на  перемена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 уроках    __ говорить с сосед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__      приходить вовремя на занят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8627" t="20665" r="-4446" b="16670"/>
          <a:stretch/>
        </p:blipFill>
        <p:spPr>
          <a:xfrm>
            <a:off x="1187280" y="2492280"/>
            <a:ext cx="2592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А теперь проверим!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Девочек </a:t>
            </a: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не _ дёргать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за косич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Не _ драться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на переменах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На уроках </a:t>
            </a: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не _ говорить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с соседо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риходить вовремя на заня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Вывод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Частица 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не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придаёт отрицательный смысл слову или  всему предложению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Правило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Отрицательная частица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не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с глаголами пишется раздельно: не _ читал, не _ прыга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Раздельное написание частицы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с глаголами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орфограмма-пробе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Запомни!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Не с глаголами пиши  раздельно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Например: не __ хотел, не __ знал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Только помни об исключениях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Ненавидел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негодовал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ома: С.130, упр.224,225;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правило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42920" y="2133720"/>
            <a:ext cx="698508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7:19:27Z</dcterms:created>
  <dc:creator>Оксана</dc:creator>
  <dc:description/>
  <dc:language>en-US</dc:language>
  <cp:lastModifiedBy>Пользователь</cp:lastModifiedBy>
  <dcterms:modified xsi:type="dcterms:W3CDTF">2012-12-03T17:19:06Z</dcterms:modified>
  <cp:revision>8</cp:revision>
  <dc:subject/>
  <dc:title>Открытый урок русского языка</dc:title>
</cp:coreProperties>
</file>